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00F-3133-4003-8975-EC8E2E3F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400" y="472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EFC-E257-47BE-BC96-D64B7ACD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472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7360" y="472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FDE1-D4C4-4711-A3B8-BCB133F0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1360" y="380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5680" y="380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400" y="472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1360" y="472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5680" y="472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312D-630F-41FA-8D1A-EBD49FCC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A618-5CCE-4C48-8D4F-661FD45C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193E-D2BE-48F6-94D1-34DAB61E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9594-062B-49E9-99D7-4F1094A7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F7CD-7329-4425-941F-76465C3A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3AB8-4268-4DEF-9BFF-45682473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7354-2919-40B0-AEF8-B3E9117D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057400" y="472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9332-59F7-487B-83B6-71FF1855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29D-C9A3-48A5-BE13-1A7F97AB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7360" y="472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6A5C-9CB2-45F6-8880-8F0CBD1E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400" y="472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0A7D-E067-4BA1-9518-45A254DC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057400" y="472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81FA-4FE0-4B16-9630-F690A982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472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37360" y="472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6543-1547-4F05-9939-1ACD588D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1360" y="380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5680" y="380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057400" y="472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1360" y="472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5680" y="472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B5CE-137A-45E5-8C44-F7D0BCB8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E17-BF54-4B6C-8F08-F0647FFB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297-05C5-4420-8E9E-94AB63A5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B1E-1712-452C-9074-DADD2462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ABA-8130-41C1-B139-7986743A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400" y="472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26A-C1FF-4859-BF5D-BDB24455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7360" y="472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0E94-64B2-446A-97CB-0BDD2F39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380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400" y="472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25A-54A4-46B9-95D3-394FEB1E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DDAB-B2E7-4769-949B-6D0A7298D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B8CA-B8EE-44AE-9021-260815B69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clally.eu/viclally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 L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Blog is at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viclally.eu/vicl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1:15:06Z</dcterms:created>
  <dc:creator>Vic Lally</dc:creator>
  <dc:description/>
  <cp:keywords/>
  <dc:language>en-US</dc:language>
  <cp:lastModifiedBy>Vic Lally</cp:lastModifiedBy>
  <cp:lastPrinted>1904-01-01T00:00:00Z</cp:lastPrinted>
  <dcterms:modified xsi:type="dcterms:W3CDTF">2009-08-18T21:17:16Z</dcterms:modified>
  <cp:revision>1</cp:revision>
  <dc:subject/>
  <dc:title>PowerPoint Presentation  -  viclally.eu</dc:title>
</cp:coreProperties>
</file>